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DC49-DDBB-4F93-BFC9-850D86945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7892-FFAB-4842-94A0-49C8FCD474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3834B-1817-45BB-ACC5-76DFF532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73A7A-4B43-43CB-B30B-E31598C8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3087D-61E2-4147-8A3D-815BC5B3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36B9C-E082-4C7A-A770-6E43F34A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BAA9-BF25-42D5-BAF1-62589BB3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0E65-AB43-4D26-8133-F53D5435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C305-E3CC-4B9A-86B4-42346A07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5B90-7A82-44B6-94AD-6C370B63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5B11-70B7-454F-91E9-EA96DB1D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A2A9-EF0C-4B84-9592-6D10923C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241D-4B48-4E96-8DD2-D12298FA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B86EB-486E-4B64-B16E-C17C4962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3D1D-96E5-4B3F-B477-D7694A53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5892-3FFF-430F-9D72-0EBF8E9E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7F15-C3A3-49AE-903B-180091C7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1574-E59B-4010-A2E6-62B4F69D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5F57-492F-4193-95C6-4C306964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C0DBE-4474-48B1-B0DC-EACAE728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9A6FE-FC7F-4C7E-A6FF-CF0DC90D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138E9-25CA-42DA-8049-1E5D5113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0534D-AD0F-41BF-848F-4861F076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BC7D7-36D4-4160-8DC6-05A51632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B5D1E-8332-4967-813D-D227E3AF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D489C-96C3-4804-8398-14F9E9DC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23C4-46CA-4067-BD68-67CCC1A9ED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8E40-B84D-43B1-B82A-14FA2FE266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icrosoft.com/protect/computer/firewall/faq.mspx" TargetMode="External"/><Relationship Id="rId2" Type="http://schemas.openxmlformats.org/officeDocument/2006/relationships/hyperlink" Target="http://www.windowsmarketplace.com/category.aspx?bcatid=326&amp;tabid=2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Monotype Corsiva"/>
              </a:rPr>
              <a:t>Throughout the ages man has struggled with the Subj. of Right &amp; Wrong, Ethics &amp; Justice`</a:t>
            </a:r>
            <a:r>
              <a:rPr b="1" lang="en-US" sz="3600" spc="-1" strike="noStrike">
                <a:solidFill>
                  <a:srgbClr val="e5e5ff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e5e5ff"/>
                </a:solidFill>
                <a:latin typeface="Monotype Corsiva"/>
              </a:rPr>
              <a:t>`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Monotype Corsiva"/>
              </a:rPr>
              <a:t>Computer Viru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Monotype Corsiva"/>
              </a:rPr>
              <a:t>What is Computer Viru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omputer viruses are small software programs that are designed to spread from one computer to another and to interfere with computer oper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Monotype Corsiva"/>
              </a:rPr>
              <a:t>Spreading of Vir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Virus are most easily sprea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pread through E-mail Attachments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nstant Messaging messages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Funny Images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Audio and Videos files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Downloading files from Internet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Greeting cards and many mo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"/>
          <p:cNvSpPr/>
          <p:nvPr/>
        </p:nvSpPr>
        <p:spPr>
          <a:xfrm>
            <a:off x="574740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Monotype Corsiva"/>
              </a:rPr>
              <a:t>Steps to help avoid Viru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an 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Internet firewal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scribe to 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industry standard antivirus softwa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ver open an e-mail attachment from someone you don't know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an each and every attachment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les to be followed, while surfing n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574740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e5ff"/>
                </a:solidFill>
                <a:latin typeface="Monotype Corsiva"/>
              </a:rPr>
              <a:t>COMPUTER CRIM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409720" y="6248520"/>
            <a:ext cx="358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Monotype Corsiva"/>
              </a:rPr>
              <a:t>TYPES OF COMPUTER CRIM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ARGET OF THE CR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MEDIUM OF THE ATTA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O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INTIMIDATE OR DECE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574740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Monotype Corsiva"/>
              </a:rPr>
              <a:t>Types of Computer Crimin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Outsid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Insid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Monotype Corsiva"/>
              </a:rPr>
              <a:t>REASON FOR COMPUTER CRI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ECONOM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IDEOLOGIC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PSYCHOLOGIC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EGOCENT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"/>
          <p:cNvSpPr/>
          <p:nvPr/>
        </p:nvSpPr>
        <p:spPr>
          <a:xfrm>
            <a:off x="574740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Monotype Corsiva"/>
              </a:rPr>
              <a:t>METHODS OF ATTAC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DATA TEMPE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Programming Techniq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OTHER METHO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mputer Crime can be Defined as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nfrastruc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llegal acc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llegal Interup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 Interf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ystem Interf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suse Of Dev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ectronic Frau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"/>
          <p:cNvSpPr/>
          <p:nvPr/>
        </p:nvSpPr>
        <p:spPr>
          <a:xfrm>
            <a:off x="574740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1447920"/>
            <a:ext cx="769608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Ethics 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Information Technolog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Monotype Corsiva"/>
              </a:rPr>
              <a:t>Software piracy and Hacking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"/>
          <p:cNvSpPr/>
          <p:nvPr/>
        </p:nvSpPr>
        <p:spPr>
          <a:xfrm>
            <a:off x="5823720" y="641016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What is PIRACY???????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80880" y="228564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Monotype Corsiva"/>
              </a:rPr>
              <a:t>Reselling Medi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Monotype Corsiva"/>
              </a:rPr>
              <a:t> </a:t>
            </a:r>
            <a:r>
              <a:rPr b="0" lang="en-US" sz="2600" spc="-1" strike="noStrike">
                <a:solidFill>
                  <a:srgbClr val="898989"/>
                </a:solidFill>
                <a:latin typeface="Monotype Corsiva"/>
              </a:rPr>
              <a:t>Downloading from a websit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Monotype Corsiva"/>
              </a:rPr>
              <a:t> </a:t>
            </a:r>
            <a:r>
              <a:rPr b="0" lang="en-US" sz="2600" spc="-1" strike="noStrike">
                <a:solidFill>
                  <a:srgbClr val="898989"/>
                </a:solidFill>
                <a:latin typeface="Monotype Corsiva"/>
              </a:rPr>
              <a:t>Taping song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Monotype Corsiva"/>
              </a:rPr>
              <a:t>Buying a used book or CD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Monotype Corsiva"/>
              </a:rPr>
              <a:t>Watching broadcast television but skipping commercial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Monotype Corsiva"/>
              </a:rPr>
              <a:t>Types of PIRA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End User Pira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Client – Server Pira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nternet Pira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Hard-Disk Pira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Software Counterfei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"/>
          <p:cNvSpPr/>
          <p:nvPr/>
        </p:nvSpPr>
        <p:spPr>
          <a:xfrm>
            <a:off x="5823720" y="641016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Monotype Corsiva"/>
              </a:rPr>
              <a:t>End-User Pira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s occurs when a company employee reproduces copies of software without authoriz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Copying disk for installation and distribu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Swapping disks in or outside the workpl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Monotype Corsiva"/>
              </a:rPr>
              <a:t>Client-Server Pira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s type of piracy occurs when too many employees on a network are using a central copy of a program at the same ti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System Over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Monotype Corsiva"/>
              </a:rPr>
              <a:t>Internet Pira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s occurs when software is downloaded from the Internet The same purchasing rules should apply to online software purchase as for those bought in traditional way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Pirate websi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Unauthorized transfer of copyrighted progra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Monotype Corsiva"/>
              </a:rPr>
              <a:t>Hard-Disk Loa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s occurs when a business who sells new computers loads illegal copies of software onto the hard disks to make the purchase of the machines more attract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Value Added Resellers (VA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"/>
          <p:cNvSpPr/>
          <p:nvPr/>
        </p:nvSpPr>
        <p:spPr>
          <a:xfrm>
            <a:off x="5823720" y="641016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Monotype Corsiva"/>
              </a:rPr>
              <a:t>Software Counterfei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s type of piracy is the illegal duplication and sale of copyrighted material with the intent of directly imitating the copyrighted produc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Monotype Corsiva"/>
              </a:rPr>
              <a:t>HACK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ome one who bypasses the system’s access controls by taking advantage of security weaknesses left in the system by developers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Monotype Corsiva"/>
              </a:rPr>
              <a:t>What HACKER do??????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Access confidential in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reaten someone from YOUR compu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Broadcast your confidential letters or materials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tore illegal materi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"/>
          <p:cNvSpPr/>
          <p:nvPr/>
        </p:nvSpPr>
        <p:spPr>
          <a:xfrm>
            <a:off x="5823720" y="641016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5e5ff"/>
                </a:solidFill>
                <a:latin typeface="Monotype Corsiva"/>
              </a:rPr>
              <a:t>Content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Garamond"/>
              </a:rPr>
              <a:t>What is Ethics and Information Technology?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Garamond"/>
              </a:rPr>
              <a:t>Ethical issues relating to computer appli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Garamond"/>
              </a:rPr>
              <a:t>Security Threa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Garamond"/>
              </a:rPr>
              <a:t>Computer Viru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Garamond"/>
              </a:rPr>
              <a:t>Cyber Cr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Garamond"/>
              </a:rPr>
              <a:t>Software piracy and Hack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Garamond"/>
              </a:rPr>
              <a:t>Computer crime preven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Garamond"/>
              </a:rPr>
              <a:t>Case Stu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Garamond"/>
              </a:rPr>
              <a:t>Ethical dilemmas and consid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Monotype Corsiva"/>
              </a:rPr>
              <a:t>Evils of Hack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ompromise the security of system without permission from an authorized party, usually with the intent of accessing  computers connected to the networ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Monotype Corsiva"/>
              </a:rPr>
              <a:t>Advantage of Hack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o determine problem and weakness for progr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reation of firewa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Useful for military purpose and spy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Better computer secu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3300"/>
                </a:solidFill>
                <a:latin typeface="Monotype Corsiva"/>
              </a:rPr>
              <a:t>Computer crime preventi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omputer crime is becoming ever prevalent in our society. More and more companies and individuals rely on the service and resources provided through networks comput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Monotype Corsiva"/>
              </a:rPr>
              <a:t>TYPES OF COMPUTER CRIME PREVEN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nternet crime preven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Prevention of cyber crim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Prevention of computer crime in banking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T securit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Computer crime prevention law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Hi tech crime prevention la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Computer crime preventing on line frau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World risk investigation and terrorist preven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Garamond"/>
              </a:rPr>
              <a:t>Case Study </a:t>
            </a:r>
            <a:br>
              <a:rPr sz="6000"/>
            </a:br>
            <a:r>
              <a:rPr b="1" i="1" lang="en-US" sz="60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Monotype Corsiva"/>
              </a:rPr>
              <a:t>of sole remaining supplier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Monotype Corsiva"/>
              </a:rPr>
              <a:t>Key points of Case Stud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Background (pacemake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Lack of dexterity in installation of pacema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rious consequenc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ransistor making company decided to pull its hand out of busin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Monotype Corsiva"/>
              </a:rPr>
              <a:t>Key points of Case Stud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Realization of prob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Ethical dilemm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Different views in board of direc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eory of utilitari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ETHICAL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DILEMMAS 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AND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ONSIDERATION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thical dilemmas in I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lemmas are discussed in relation to four areas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va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on accura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inform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llectual property righ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5e5ff"/>
                </a:solidFill>
                <a:latin typeface="Garamond"/>
              </a:rPr>
              <a:t>Ethic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rived from the Greek word “</a:t>
            </a:r>
            <a:r>
              <a:rPr b="0" lang="en-US" sz="3200" spc="-1" strike="noStrike">
                <a:solidFill>
                  <a:srgbClr val="ff0000"/>
                </a:solidFill>
                <a:latin typeface="Monotype Corsiva"/>
              </a:rPr>
              <a:t>etho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”, which means “</a:t>
            </a:r>
            <a:r>
              <a:rPr b="0" lang="en-US" sz="3200" spc="-1" strike="noStrike">
                <a:solidFill>
                  <a:srgbClr val="ff0000"/>
                </a:solidFill>
                <a:latin typeface="Monotype Corsiva"/>
              </a:rPr>
              <a:t>custo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”, “</a:t>
            </a:r>
            <a:r>
              <a:rPr b="0" lang="en-US" sz="3200" spc="-1" strike="noStrike">
                <a:solidFill>
                  <a:srgbClr val="ff0000"/>
                </a:solidFill>
                <a:latin typeface="Monotype Corsiva"/>
              </a:rPr>
              <a:t>habi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”, and “</a:t>
            </a:r>
            <a:r>
              <a:rPr b="0" lang="en-US" sz="3200" spc="-1" strike="noStrike">
                <a:solidFill>
                  <a:srgbClr val="ff0000"/>
                </a:solidFill>
                <a:latin typeface="Monotype Corsiva"/>
              </a:rPr>
              <a:t>way of livin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tion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"</a:t>
            </a:r>
            <a:r>
              <a:rPr b="0" i="1" lang="en-US" sz="3600" spc="-1" strike="noStrike">
                <a:solidFill>
                  <a:srgbClr val="ff3300"/>
                </a:solidFill>
                <a:latin typeface="Garamond"/>
              </a:rPr>
              <a:t>the discipline and practice of applying value to human behavior, resulting in meaningful conduc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thical dilemmas in relation to IT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AGIARISM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taking of ideas,writing and drawings or other similar intellectual property created by others and presenting it as your ow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TIQUETTE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et of rules (mainly unwritten) to follow while you are onlin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SOME IMPORTANT VIEW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rnet offers great riches for the future,but poses many threa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chnology requires vigil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derations regarding information ethics influence personal decisions,professional practice and public polic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FFECTIVE WAY OUT OF SUCH DILEMM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Monotype Corsiva"/>
              </a:rPr>
              <a:t>Presented By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Monotype Corsiva"/>
              </a:rPr>
              <a:t>Solanki Vimal S.</a:t>
            </a: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Monotype Corsiva"/>
              </a:rPr>
              <a:t>Binapani</a:t>
            </a: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Monotype Corsiva"/>
              </a:rPr>
              <a:t>Nishant Ranjan</a:t>
            </a: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Monotype Corsiva"/>
              </a:rPr>
              <a:t>Archana</a:t>
            </a: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Monotype Corsiva"/>
              </a:rPr>
              <a:t>Rajnish Choubey</a:t>
            </a: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Monotype Corsiva"/>
              </a:rPr>
              <a:t>Jyoti Singh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e5ff"/>
                </a:solidFill>
                <a:latin typeface="Monotype Corsiva"/>
              </a:rPr>
              <a:t>Cont……….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Garamond"/>
              </a:rPr>
              <a:t>Professional Ethics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oncerns one's conduct of behavior and practice when carrying out professional work, e.g., consulting, researching, teaching and wri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onotype Corsiva"/>
              </a:rPr>
              <a:t>A computing professional must understand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Cultural, social, legal, and ethical issues in comput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Responsibility and possible consequences of failu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Monotype Corsiva"/>
              </a:rPr>
              <a:t>Computer Eth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Computer ethics define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Monotype Corsiva"/>
              </a:rPr>
              <a:t>as the application of classical ethical principles to the use of computer technolog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Ethical problems related to computer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Priva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mputers create a false sense of secu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do not realize how vulnerable information stored on computers 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Proper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hysical proper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llectual property (in both copyright and patent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ata as proper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574740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Acc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Access to computing techn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Access to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Accura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Accuracy of information sto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Hacking, cracking and virus cre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oftware pira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574740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Ten Commandments of computer ethics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have been defined by the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Computer Ethics Institute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. 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1) Thou shalt not use a computer to harm other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2) Thou shalt not interfere with other people's computer wor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3) Thou shalt not snoop around in other people's fi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4) Thou shalt not use a computer to ste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5) Thou shalt not use a computer to bear false witnes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574740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6) Thou shalt not use or copy software for which you have not pai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7) Thou shalt not use other people's computer resources without authoris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8) Thou shalt not appropriate other people's intellectual outpu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9) Thou shalt think about the social consequences of the program you wri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10) Thou shalt use a computer in ways that show consideration and respec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574740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0:51:10Z</dcterms:created>
  <dc:creator>ibmr</dc:creator>
  <dc:description/>
  <dc:language>en-US</dc:language>
  <cp:lastModifiedBy>ibmr</cp:lastModifiedBy>
  <dcterms:modified xsi:type="dcterms:W3CDTF">2008-10-22T04:39:51Z</dcterms:modified>
  <cp:revision>39</cp:revision>
  <dc:subject/>
  <dc:title>Slide 1</dc:title>
</cp:coreProperties>
</file>